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push.wav" ContentType="audio/x-wav"/>
  <Override PartName="/ppt/media/cashreg.wav" ContentType="audio/x-wav"/>
  <Override PartName="/ppt/media/laser.wav" ContentType="audio/x-wav"/>
  <Override PartName="/ppt/media/chimes.wav" ContentType="audio/x-wav"/>
  <Override PartName="/ppt/media/click.wav" ContentType="audio/x-wav"/>
  <Override PartName="/ppt/media/hammer.wav" ContentType="audio/x-wav"/>
  <Override PartName="/ppt/media/explode.wav" ContentType="audio/x-wav"/>
  <Override PartName="/ppt/media/camera.wav" ContentType="audio/x-wav"/>
  <Override PartName="/ppt/media/whoosh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7DB-44D2-4111-8C7D-29727038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42B-ADB9-4FF3-9059-A5973B2D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740-4012-4F43-B6C3-7A931A8F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657-ABCE-48AA-9D6B-AF5A6F4E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8EE-0557-449F-938C-F6EEDF3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941-83A0-4E57-A859-589E1D6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2E4-B735-4DA6-867A-1C38A164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C08-84B2-4630-BD16-21EEFA3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D24-8D66-4FD4-ADFA-27A850A7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354-CE99-468E-83A6-FCC6BEC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385-0CAB-48E3-8D35-749EF77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F4A-0289-4C81-9158-2D2699C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C75C-FBF4-4BA2-91F8-83AF016107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laser.wav"/><Relationship Id="rId4" Type="http://schemas.openxmlformats.org/officeDocument/2006/relationships/audio" Target="../media/applause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audio" Target="../media/push.wav"/><Relationship Id="rId4" Type="http://schemas.openxmlformats.org/officeDocument/2006/relationships/audio" Target="../media/explod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bd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276640"/>
            <a:ext cx="7846920" cy="302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عرف بـ أل</a:t>
            </a:r>
            <a:r>
              <a:rPr b="0" lang="sv-SE" sz="9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189000"/>
            <a:ext cx="1873080" cy="43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808080"/>
              </a:gs>
              <a:gs pos="100000">
                <a:srgbClr val="c3c3c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سام والبل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1640" y="836640"/>
            <a:ext cx="8461440" cy="5616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سام طفل مهذب ، في بيته بلبل صغير وضعه في قفص جمي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حب </a:t>
            </a:r>
            <a:r>
              <a:rPr b="1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طف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بلب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كثيراً ، وصار يعتني به ويلاعب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في صباح يوم مشرق قالت أم حسام لولدها : استعد يا بني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نحن سنخرج لزيارة مزرعة جد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سارع حسام إلى تنفيذ أمر والدته ،وقبل موعد الخروج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قترب من قفص البلبل فلاحظ أنه لا يغرد كعادته فغلبته الرح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قال : أظنك تريد الخروج مثلنا ، ثم بادر إلى فتح باب القفص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انطلق </a:t>
            </a:r>
            <a:r>
              <a:rPr b="1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بلب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كالسهم مرفرفاً بجناحيه ، مرسلاً أنغاماً عذبة في الفضا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19640" y="476280"/>
            <a:ext cx="3095640" cy="836640"/>
          </a:xfrm>
          <a:prstGeom prst="downArrowCallout">
            <a:avLst>
              <a:gd name="adj1" fmla="val 92511"/>
              <a:gd name="adj2" fmla="val 92502"/>
              <a:gd name="adj3" fmla="val 16667"/>
              <a:gd name="adj4" fmla="val 66667"/>
            </a:avLst>
          </a:prstGeom>
          <a:gradFill rotWithShape="0">
            <a:gsLst>
              <a:gs pos="0">
                <a:srgbClr val="808080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ثــلـــ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91400" y="2421000"/>
            <a:ext cx="625680" cy="649080"/>
          </a:xfrm>
          <a:custGeom>
            <a:avLst/>
            <a:gdLst>
              <a:gd name="textAreaLeft" fmla="*/ 30240 w 625680"/>
              <a:gd name="textAreaRight" fmla="*/ 595440 w 625680"/>
              <a:gd name="textAreaTop" fmla="*/ 30240 h 649080"/>
              <a:gd name="textAreaBottom" fmla="*/ 618840 h 649080"/>
            </a:gdLst>
            <a:ahLst/>
            <a:rect l="textAreaLeft" t="textAreaTop" r="textAreaRight" b="textAreaBottom"/>
            <a:pathLst>
              <a:path w="21600" h="22407">
                <a:moveTo>
                  <a:pt x="3600" y="0"/>
                </a:moveTo>
                <a:arcTo wR="3600" hR="3600" stAng="16200000" swAng="-5400000"/>
                <a:lnTo>
                  <a:pt x="0" y="18807"/>
                </a:lnTo>
                <a:arcTo wR="3600" hR="3600" stAng="10800000" swAng="-5400000"/>
                <a:lnTo>
                  <a:pt x="18000" y="2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6680" y="2421000"/>
            <a:ext cx="49449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حب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طف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بلب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7640" y="3357720"/>
            <a:ext cx="625320" cy="649080"/>
          </a:xfrm>
          <a:custGeom>
            <a:avLst/>
            <a:gdLst>
              <a:gd name="textAreaLeft" fmla="*/ 30240 w 625320"/>
              <a:gd name="textAreaRight" fmla="*/ 595080 w 625320"/>
              <a:gd name="textAreaTop" fmla="*/ 30240 h 649080"/>
              <a:gd name="textAreaBottom" fmla="*/ 618840 h 649080"/>
            </a:gdLst>
            <a:ahLst/>
            <a:rect l="textAreaLeft" t="textAreaTop" r="textAreaRight" b="textAreaBottom"/>
            <a:pathLst>
              <a:path w="21600" h="22420">
                <a:moveTo>
                  <a:pt x="3600" y="0"/>
                </a:moveTo>
                <a:arcTo wR="3600" hR="3600" stAng="16200000" swAng="-5400000"/>
                <a:lnTo>
                  <a:pt x="0" y="18820"/>
                </a:lnTo>
                <a:arcTo wR="3600" hR="3600" stAng="10800000" swAng="-5400000"/>
                <a:lnTo>
                  <a:pt x="18000" y="22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7640" y="4292640"/>
            <a:ext cx="625320" cy="649080"/>
          </a:xfrm>
          <a:custGeom>
            <a:avLst/>
            <a:gdLst>
              <a:gd name="textAreaLeft" fmla="*/ 30240 w 625320"/>
              <a:gd name="textAreaRight" fmla="*/ 595080 w 625320"/>
              <a:gd name="textAreaTop" fmla="*/ 30240 h 649080"/>
              <a:gd name="textAreaBottom" fmla="*/ 618840 h 649080"/>
            </a:gdLst>
            <a:ahLst/>
            <a:rect l="textAreaLeft" t="textAreaTop" r="textAreaRight" b="textAreaBottom"/>
            <a:pathLst>
              <a:path w="21600" h="22420">
                <a:moveTo>
                  <a:pt x="3600" y="0"/>
                </a:moveTo>
                <a:arcTo wR="3600" hR="3600" stAng="16200000" swAng="-5400000"/>
                <a:lnTo>
                  <a:pt x="0" y="18820"/>
                </a:lnTo>
                <a:arcTo wR="3600" hR="3600" stAng="10800000" swAng="-5400000"/>
                <a:lnTo>
                  <a:pt x="18000" y="22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3355920"/>
            <a:ext cx="49453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قترب حسام من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بلب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5400" y="4292640"/>
            <a:ext cx="49449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فتح حسام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قف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765000"/>
            <a:ext cx="8424720" cy="7653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حب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طف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بلبل. اقترب حسام من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بلبل .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فتح حسام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القف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16280"/>
            <a:ext cx="8315280" cy="4537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2060640"/>
            <a:ext cx="12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قش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256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تأمل الكلمات الآتية : طفل – بلبل – قف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س- أهي نكرة أم معرفة 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2997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PT Bold Heading"/>
              </a:rPr>
              <a:t>( نكرة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371628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قارن بين هذه الكلمات والكلمات الملونة في الأمثلة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16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(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الطف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ــ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البلب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ــ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القف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443700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س- ماذا زاد على الاسم النكرة 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21300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3657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PT Bold Heading"/>
              </a:rPr>
              <a:t>( ال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5084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س- ماذا نسمي ( ال)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084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PT Bold Heading"/>
              </a:rPr>
              <a:t>( ال التعريف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5661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5516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س- كيف أصبح الاسم النكرة بعد دخول (ال) التعريف عليه 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PT Bold Heading"/>
              </a:rPr>
              <a:t>(  أصبح معرفة يدل على معين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44280"/>
            <a:ext cx="5400720" cy="1224000"/>
          </a:xfrm>
          <a:custGeom>
            <a:avLst/>
            <a:gdLst>
              <a:gd name="textAreaLeft" fmla="*/ 1813320 w 5400720"/>
              <a:gd name="textAreaRight" fmla="*/ 3587400 w 5400720"/>
              <a:gd name="textAreaTop" fmla="*/ 410760 h 1224000"/>
              <a:gd name="textAreaBottom" fmla="*/ 81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53" y="7253"/>
                </a:lnTo>
                <a:lnTo>
                  <a:pt x="10800" y="0"/>
                </a:lnTo>
                <a:lnTo>
                  <a:pt x="14347" y="7253"/>
                </a:lnTo>
                <a:lnTo>
                  <a:pt x="21600" y="10800"/>
                </a:lnTo>
                <a:lnTo>
                  <a:pt x="14347" y="14347"/>
                </a:lnTo>
                <a:lnTo>
                  <a:pt x="10800" y="21600"/>
                </a:lnTo>
                <a:lnTo>
                  <a:pt x="7253" y="1434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a0a0a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لقـــــاع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336400">
            <a:off x="6443640" y="331560"/>
            <a:ext cx="2374920" cy="1368360"/>
          </a:xfrm>
          <a:custGeom>
            <a:avLst/>
            <a:gdLst>
              <a:gd name="textAreaLeft" fmla="*/ 317880 w 2374920"/>
              <a:gd name="textAreaRight" fmla="*/ 2057040 w 2374920"/>
              <a:gd name="textAreaTop" fmla="*/ 264960 h 1368360"/>
              <a:gd name="textAreaBottom" fmla="*/ 964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3" stAng="-5400000" swAng="5400000"/>
                <a:lnTo>
                  <a:pt x="21600" y="11030"/>
                </a:lnTo>
                <a:arcTo wR="21600" hR="8373" stAng="0" swAng="4153664"/>
                <a:lnTo>
                  <a:pt x="3142" y="21511"/>
                </a:lnTo>
                <a:lnTo>
                  <a:pt x="0" y="18074"/>
                </a:lnTo>
                <a:lnTo>
                  <a:pt x="3142" y="14458"/>
                </a:lnTo>
                <a:lnTo>
                  <a:pt x="3142" y="16656"/>
                </a:lnTo>
                <a:arcTo wR="21600" hR="8373" stAng="4153664" swAng="-3939790"/>
                <a:lnTo>
                  <a:pt x="21326" y="9701"/>
                </a:lnTo>
                <a:arcTo wR="21600" hR="8373" stAng="-213874" swAng="-5186126"/>
                <a:close/>
              </a:path>
              <a:path fill="darkenLess" w="21600" h="21600">
                <a:moveTo>
                  <a:pt x="0" y="0"/>
                </a:moveTo>
                <a:arcTo wR="21600" hR="8373" stAng="-5400000" swAng="5400000"/>
                <a:lnTo>
                  <a:pt x="21600" y="11030"/>
                </a:lnTo>
                <a:arcTo wR="21600" hR="8373" stAng="0" swAng="-213874"/>
                <a:lnTo>
                  <a:pt x="21326" y="9701"/>
                </a:lnTo>
                <a:arcTo wR="21600" hR="8373" stAng="-213874" swAng="-5186126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413000"/>
            <a:ext cx="6516720" cy="15843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gency FB"/>
                <a:cs typeface="PT Bold Heading"/>
              </a:rPr>
              <a:t>المعرف ب (أل ) :</a:t>
            </a:r>
            <a:r>
              <a:rPr b="1" lang="en-US" sz="1800" spc="-1" strike="noStrike">
                <a:solidFill>
                  <a:srgbClr val="000000"/>
                </a:solidFill>
                <a:latin typeface="Agency FB"/>
                <a:ea typeface="PT Bold Heading"/>
              </a:rPr>
              <a:t> هو كل اسم نكرة اكتسب التعريف بدخول (ال) علي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694400">
            <a:off x="2545200" y="596160"/>
            <a:ext cx="3116160" cy="8207280"/>
          </a:xfrm>
          <a:custGeom>
            <a:avLst/>
            <a:gdLst>
              <a:gd name="textAreaLeft" fmla="*/ 417240 w 3116160"/>
              <a:gd name="textAreaRight" fmla="*/ 2698920 w 3116160"/>
              <a:gd name="textAreaTop" fmla="*/ 1931760 h 8207280"/>
              <a:gd name="textAreaBottom" fmla="*/ 6069960 h 820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69" stAng="-5400000" swAng="-5400000"/>
                <a:lnTo>
                  <a:pt x="0" y="10890"/>
                </a:lnTo>
                <a:arcTo wR="21600" hR="10169" stAng="10800000" swAng="-3847661"/>
                <a:lnTo>
                  <a:pt x="16792" y="21345"/>
                </a:lnTo>
                <a:lnTo>
                  <a:pt x="21600" y="20699"/>
                </a:lnTo>
                <a:lnTo>
                  <a:pt x="16792" y="19542"/>
                </a:lnTo>
                <a:lnTo>
                  <a:pt x="16792" y="20083"/>
                </a:lnTo>
                <a:arcTo wR="21600" hR="10169" stAng="6952339" swAng="3790255"/>
                <a:lnTo>
                  <a:pt x="14" y="10530"/>
                </a:lnTo>
                <a:arcTo wR="21600" hR="10169" stAng="-10742594" swAng="5342594"/>
                <a:close/>
              </a:path>
              <a:path fill="darkenLess" w="21600" h="21600">
                <a:moveTo>
                  <a:pt x="21600" y="0"/>
                </a:moveTo>
                <a:arcTo wR="21600" hR="10169" stAng="-5400000" swAng="-5400000"/>
                <a:lnTo>
                  <a:pt x="0" y="10169"/>
                </a:lnTo>
                <a:arcTo wR="21600" hR="10169" stAng="10800000" swAng="-57406"/>
                <a:lnTo>
                  <a:pt x="14" y="10530"/>
                </a:lnTo>
                <a:arcTo wR="21600" hR="10169" stAng="-10742594" swAng="5342594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752200">
            <a:off x="1332000" y="3213000"/>
            <a:ext cx="7740720" cy="100800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ا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قلم  (نكرة 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قلم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PT Bold Heading"/>
              </a:rPr>
              <a:t>( معرفة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ا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فتاة ( نكرة 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PT Bold Heading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تاة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PT Bold Heading"/>
              </a:rPr>
              <a:t>( معرفة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32000" y="287280"/>
            <a:ext cx="3600720" cy="549360"/>
          </a:xfrm>
          <a:custGeom>
            <a:avLst/>
            <a:gdLst>
              <a:gd name="textAreaLeft" fmla="*/ 1137600 w 3600720"/>
              <a:gd name="textAreaRight" fmla="*/ 2463120 w 3600720"/>
              <a:gd name="textAreaTop" fmla="*/ 173520 h 549360"/>
              <a:gd name="textAreaBottom" fmla="*/ 3758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25" y="6825"/>
                </a:lnTo>
                <a:lnTo>
                  <a:pt x="10800" y="0"/>
                </a:lnTo>
                <a:lnTo>
                  <a:pt x="14775" y="6825"/>
                </a:lnTo>
                <a:lnTo>
                  <a:pt x="21600" y="10800"/>
                </a:lnTo>
                <a:lnTo>
                  <a:pt x="14775" y="14775"/>
                </a:lnTo>
                <a:lnTo>
                  <a:pt x="10800" y="21600"/>
                </a:lnTo>
                <a:lnTo>
                  <a:pt x="6825" y="1477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تدري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1197000"/>
            <a:ext cx="7199280" cy="36036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املأ الفراغ في الجمل الآتية بأسماء معرفة بـ ( أل ) ، واضبط آخرها بالشكل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1916280"/>
            <a:ext cx="7416720" cy="446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ققت ............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نجاح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إماطة الأذى عن .............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صدق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يحمي البلاد ...............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أوفيا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...............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برهما واج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كرمت الدولة .................. المخلص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213984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Traditional Arabic"/>
              </a:rPr>
              <a:t>ا</a:t>
            </a:r>
            <a:r>
              <a:rPr b="1" lang="hi-IN" sz="3600" spc="-1" strike="noStrike">
                <a:solidFill>
                  <a:srgbClr val="0000ff"/>
                </a:solidFill>
                <a:latin typeface="Arial"/>
                <a:cs typeface="Traditional Arabic"/>
              </a:rPr>
              <a:t>لطالبةُ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781360"/>
            <a:ext cx="15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  <a:cs typeface="DecoType Naskh"/>
              </a:rPr>
              <a:t>الطريق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342900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  <a:cs typeface="DecoType Naskh"/>
              </a:rPr>
              <a:t>الجنود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4311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  <a:cs typeface="DecoType Naskh"/>
              </a:rPr>
              <a:t>الوال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501336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  <a:cs typeface="DecoType Naskh"/>
              </a:rPr>
              <a:t>الرجال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8:26:51Z</dcterms:created>
  <dc:creator>العيون الشقية</dc:creator>
  <dc:description/>
  <dc:language>en-US</dc:language>
  <cp:lastModifiedBy>Arabic</cp:lastModifiedBy>
  <dcterms:modified xsi:type="dcterms:W3CDTF">2006-03-07T19:06:43Z</dcterms:modified>
  <cp:revision>16</cp:revision>
  <dc:subject/>
  <dc:title>الشريحة 1</dc:title>
</cp:coreProperties>
</file>